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C7F-1F2C-4C35-A468-5D2ACEA0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8A8E-1244-4181-90EC-238D9FDD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7BD0-D5C7-4CB0-9173-0B694931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1739-CB4B-46D2-9537-A0035847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28EF-871F-4D5A-BA3E-E6A3E7F9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91B5-7D41-4591-B1D2-300B607B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669D-8514-41E8-89B4-1B07B861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5E51-974C-4210-82EC-B17F5033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B931-5E77-49F8-98C3-3B2935BD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9D22-E39C-4F2D-A440-81D5FA57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BAEE-1F74-445A-823B-1DCC861E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5C9-82A5-4C2D-A155-BDFEA4E6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6F78-C0CE-4C30-B2AF-5E2B6044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8825-DB8D-4B84-B7CC-4DAB3D0A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D67D-2DEB-4139-BC9F-C5384546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2331-24D2-4B95-8F6E-9FC14AC2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FBF2-2D3B-4C6E-A0F9-E3C8F596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88B1-D447-4AFD-951B-5FFF81F5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09E9-F8D9-45D1-BB0B-6F716B01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0C22-FCDA-4900-B5CB-2231174E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7A5-73E2-44F0-8CE4-B80401B4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530F-6DF7-4B13-AA7E-FB1B2E53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1DD6-1B84-46B1-8968-F3B5E8C2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D28A-5DB6-478A-A366-CA726568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BF19-7D75-4FBE-97A1-B144523AB9D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E44D-2FE7-40A6-8BC1-30295F8507C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o Tell The Good News –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rt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uarter 12, Lesson 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omans 8-16; Acts 20:3b-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gs.172-17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d’s Plan For Righteousne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mands righteous lives – 12:1 – 15:1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 view of God’s Mercy, let your lives be transformed – 12:1-2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ulfill your obligations of love to others – 13:1-1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ow concern for the spiritual welfare of your brethren in Christ – 14:1-2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on’t deal harshly with a weak brother on matters of judgment – 14:1-1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on’t put a stumbling-block in his path by your actions – 14:13-23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flect the example of Christ, who gave Himself as a sacrifice for others – 15:1-13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y you abound in joy, peace, and hop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ief Summary of Roma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d’s Plan For Righteousnes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revealed in the gospel – 1:1-1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needed by all – 1:18 – 3:2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given through faith – 3:21 – 5:1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lves the problem of sin – 5:12 – 6:2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vercomes the curse of the law – 7:1-2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ides for all man’s spiritual needs – 8:1-39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ulfills the hope of true Israel – 9:1 – 11:3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mands righteous lives – 12:1 – 15:1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ul’s plans for the near future – 15:14-3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eetings and closing remarks – 16:1-2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20120" y="3962520"/>
            <a:ext cx="6094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29600" y="4038480"/>
            <a:ext cx="0" cy="17528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315200" y="5791320"/>
            <a:ext cx="91440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 rot="5400000">
            <a:off x="7753680" y="4514040"/>
            <a:ext cx="17510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Today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518148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55627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aul Sails to Troas (Acts 20:3b-6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1549440"/>
            <a:ext cx="8153280" cy="530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590920" y="2057400"/>
            <a:ext cx="685800" cy="4572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aul Sails to Troas (Acts 20:3b-6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62520" y="1598400"/>
            <a:ext cx="47196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ul had planned to sail from Corinth, straight for Syria on his way to Jerusa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ut the Jews plotted to kill h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 Paul went back through Macedon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04920" y="1603440"/>
            <a:ext cx="3528720" cy="26049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28600" y="4648320"/>
            <a:ext cx="40384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ompanions to Jerusalem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Sopater, Aristarchus, Secundus, Gaius, Timothy, Tychicus, Trophimus, and Luk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ief Summary of Romans 1-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od’s Plan For Righteousnes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 revealed in the gospel – 1:1-1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 needed by all – 1:18 – 3:2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 given through faith – 3:21 – 5:1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lves the problem of sin – 5:12 – 6:2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comes the curse of the law – 7:1-2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ief Summary of Roma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d’s Plan For Righteousnes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revealed in the gospel – 1:1-1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needed by all – 1:18 – 3:2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given through faith – 3:21 – 5:1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lves the problem of sin – 5:12 – 6:2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vercomes the curse of the law – 7:1-2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ides for all man’s spiritual needs – 8:1-39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ulfills the hope of true Israel – 9:1 – 11:3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mands righteous lives – 12:1 – 15:1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ul’s plans for the near future – 15:14-3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eetings and closing remarks – 16:1-2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0120" y="3962520"/>
            <a:ext cx="6094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229600" y="4038480"/>
            <a:ext cx="0" cy="17528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315200" y="5791320"/>
            <a:ext cx="91440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 rot="5400000">
            <a:off x="7753680" y="4514040"/>
            <a:ext cx="17510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Today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heel spokes="8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mans 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od’s Plan Provides For Man’s Spiritual Need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 Chri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lking After The Spirit and Not The Fles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 Condemnation, but Life IN HIM – 8:1-1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lory Far Surpassing Any Comparisons To Sufferings We Face Here – 8:18-2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urity In His Love – 8:28-39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mans 9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2636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ul’s Grief Over Fleshly Israel’s Unbelief -9:1-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d’s Gifts To Israel Had Been Great – 9:4-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ing A Physical Descendant of Abraham Did Not Assure God’s Favor -9:6-18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od chose Isaac over Ishmael -6-1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od chose Jacob over Esau -11-13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od was righteous in punishing sinful Pharaoh and pardoning sinful Israel -14-18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d’s Choices Were Above The Jews’ Criticism -9:19-29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ven Hosea shows that God’s favor would not be limited to fleshly Israel.- vs.25-26; Hos.2:23; 1:1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ven Isaiah shows that only a remnant of Israelites would be saved – vs.27-29; Isa.10:22-23; 9:27-28; 1:9; 9:29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ntiles gained favor through faith – 9:3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sraelites lost favor through unbelief – 9:31-33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mans 1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Jews tried to establish their own system of righteousness by wor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s failed because they did not accept God’s plan – 10:1-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ighteousness by faith is based upon faith in the gospel which is preached to all – 10:5-1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ith comes when men will both hear and believe the message of Christ – 10:16-1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Jews were informed about God’s plan to save Gentiles -10:18-2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most refused to he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mans 1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God has not rejected His people – 11:1-6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He saves those who believe on Him and love Him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hether Jew or Gentil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Most of Israel hardened their hearts -11:7-1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Those who believed were chos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Israel’s disobedience furnished the occasion for the Gentile’s salvation -11:11-1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aul rejoices in his work among the Gentiles -11:13-16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Hoping to provoke his own people to seek salvation to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Gentiles are not to think that they have been saved because of how righteous they are – 11:17-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They stand by their faith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Or, they will also fall because of unbelief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God is both good and severe -11:22-2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mans 1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nowledge of God’s plan will prevent arrogance on the part of Gentile Christians – 11:25-2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od does not hate the Jews – 11:28-3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’s willing for them to believe and be saved from their sins too –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aise God for His great riches of wisdom and knowledge – 11:33-3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ief Summary of Roma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d’s Plan For Righteousnes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revealed in the gospel – 1:1-1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needed by all – 1:18 – 3:2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given through faith – 3:21 – 5:1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lves the problem of sin – 5:12 – 6:2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vercomes the curse of the law – 7:1-2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ides for all man’s spiritual needs – 8:1-39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ulfills the hope of true Israel – 9:1 – 11:3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mands righteous lives – 12:1 – 15:1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ul’s plans for the near future – 15:14-3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eetings and closing remarks – 16:1-2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3962520"/>
            <a:ext cx="6094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29600" y="4038480"/>
            <a:ext cx="0" cy="17528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315200" y="5791320"/>
            <a:ext cx="91440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 rot="5400000">
            <a:off x="7753680" y="4514040"/>
            <a:ext cx="17510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Today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472428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8:28:02Z</dcterms:created>
  <dc:creator>Terry W. Benton</dc:creator>
  <dc:description/>
  <dc:language>en-US</dc:language>
  <cp:lastModifiedBy>Terry W. Benton</cp:lastModifiedBy>
  <dcterms:modified xsi:type="dcterms:W3CDTF">2007-01-18T20:37:16Z</dcterms:modified>
  <cp:revision>4</cp:revision>
  <dc:subject/>
  <dc:title>Go Tell The Good News –Part 2</dc:title>
</cp:coreProperties>
</file>